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gif" ContentType="image/gi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13.wmf" ContentType="image/x-wmf"/>
  <Override PartName="/ppt/media/image10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03D8-44D9-4BDC-A95B-B311DB82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38CE-91BE-4906-A5CC-5ECB582F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3CCC-43DD-41DA-9245-9BC413F8A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BDAE-CB85-4F3B-9438-E8B714E5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A35B8-66F4-45B6-B0D3-C01ECE60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DA697-9BE9-49F8-8A51-8DAD8EDB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5865E-9BFA-4EF2-8D29-7A51261F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2B79E-C138-41C8-8FF3-EBE37334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72F36-3AA2-4905-A32A-D6C2CD0B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1A800-52CF-4D5D-9B00-89BFEFE5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08A53-B6F3-4247-80BF-2D5E67BF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C7F9-F043-4961-8E41-5D9ED294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DA9AB-AB57-446E-903D-7F3C2561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9CA02-B04B-4A33-9094-899BD459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8190B-2925-45F3-A5F9-9187594A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D9327-AB17-4F01-B235-7E19D024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F09FF-2510-451F-8AF4-77C8C237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9784-12AE-443B-BCD3-B38D70EB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2C57-0947-4C16-89C5-AC61ED52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A29C-713F-4940-8AEF-824BA9C8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CA25-3D68-491E-AD52-E9342DD3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2A4A-206D-4D09-B010-4443923D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2602-5C71-48BB-9B2C-D972C2AC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7EB2-703A-4327-9958-4C193AF7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16B2-188A-45BF-9CCD-C83C3FB2A8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8AB5-AADE-4E49-A932-A919780DFF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A Walk in the Desert</a:t>
            </a:r>
            <a:br>
              <a:rPr sz="4800"/>
            </a:b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Vocabulary and Amazing Word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nd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hape formed on land like hills, mountains, lakes, and dese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MCj04343450000[1]"/>
          <p:cNvPicPr/>
          <p:nvPr/>
        </p:nvPicPr>
        <p:blipFill>
          <a:blip r:embed="rId1"/>
          <a:stretch/>
        </p:blipFill>
        <p:spPr>
          <a:xfrm>
            <a:off x="6324480" y="2895480"/>
            <a:ext cx="1841760" cy="120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MPj04340860000[1]"/>
          <p:cNvPicPr/>
          <p:nvPr/>
        </p:nvPicPr>
        <p:blipFill>
          <a:blip r:embed="rId2"/>
          <a:stretch/>
        </p:blipFill>
        <p:spPr>
          <a:xfrm>
            <a:off x="533520" y="2743200"/>
            <a:ext cx="2514600" cy="2511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Blue hills"/>
          <p:cNvPicPr/>
          <p:nvPr/>
        </p:nvPicPr>
        <p:blipFill>
          <a:blip r:embed="rId3"/>
          <a:stretch/>
        </p:blipFill>
        <p:spPr>
          <a:xfrm>
            <a:off x="3505320" y="32004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ecipit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kind of rain, snow, hail, or other form of water that comes down from the clouds to the gr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MCj02788500000[1]"/>
          <p:cNvPicPr/>
          <p:nvPr/>
        </p:nvPicPr>
        <p:blipFill>
          <a:blip r:embed="rId1"/>
          <a:stretch/>
        </p:blipFill>
        <p:spPr>
          <a:xfrm>
            <a:off x="4114800" y="3098880"/>
            <a:ext cx="3124080" cy="2254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68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68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un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ill of sand in a dese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MPj04243850000[1]"/>
          <p:cNvPicPr/>
          <p:nvPr/>
        </p:nvPicPr>
        <p:blipFill>
          <a:blip r:embed="rId1"/>
          <a:stretch/>
        </p:blipFill>
        <p:spPr>
          <a:xfrm>
            <a:off x="3352680" y="2666880"/>
            <a:ext cx="358164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ed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helf or an overl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MCBD09077_0000[1]"/>
          <p:cNvPicPr/>
          <p:nvPr/>
        </p:nvPicPr>
        <p:blipFill>
          <a:blip r:embed="rId1"/>
          <a:stretch/>
        </p:blipFill>
        <p:spPr>
          <a:xfrm>
            <a:off x="3276720" y="2514600"/>
            <a:ext cx="437832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av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afe 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scove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someone finds out for the first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MMj02867660000[1]"/>
          <p:cNvPicPr/>
          <p:nvPr/>
        </p:nvPicPr>
        <p:blipFill>
          <a:blip r:embed="rId1"/>
          <a:stretch/>
        </p:blipFill>
        <p:spPr>
          <a:xfrm>
            <a:off x="3429000" y="2666880"/>
            <a:ext cx="2305080" cy="2203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orbidd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ms dangerous and sc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MCj03315770000[1]"/>
          <p:cNvPicPr/>
          <p:nvPr/>
        </p:nvPicPr>
        <p:blipFill>
          <a:blip r:embed="rId1"/>
          <a:stretch/>
        </p:blipFill>
        <p:spPr>
          <a:xfrm>
            <a:off x="3691080" y="2530440"/>
            <a:ext cx="2100240" cy="2955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8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0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r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ct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yo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68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68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ser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lace without water or trees but with a lot of s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MPj04243860000[1]"/>
          <p:cNvPicPr/>
          <p:nvPr/>
        </p:nvPicPr>
        <p:blipFill>
          <a:blip r:embed="rId1"/>
          <a:stretch/>
        </p:blipFill>
        <p:spPr>
          <a:xfrm>
            <a:off x="4724280" y="2590920"/>
            <a:ext cx="2795760" cy="29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ars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rough, unpleasant, and unfriend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MCj02379220000[1]"/>
          <p:cNvPicPr/>
          <p:nvPr/>
        </p:nvPicPr>
        <p:blipFill>
          <a:blip r:embed="rId1"/>
          <a:stretch/>
        </p:blipFill>
        <p:spPr>
          <a:xfrm>
            <a:off x="2666880" y="2362320"/>
            <a:ext cx="35546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ind of weather a place h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MCj03351920000[1]"/>
          <p:cNvPicPr/>
          <p:nvPr/>
        </p:nvPicPr>
        <p:blipFill>
          <a:blip r:embed="rId1"/>
          <a:stretch/>
        </p:blipFill>
        <p:spPr>
          <a:xfrm>
            <a:off x="2514600" y="2362320"/>
            <a:ext cx="425124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act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lant with sharp parts but no leaves; most live in very hot, dry areas of North and South Ame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MCj04136040000[1]"/>
          <p:cNvPicPr/>
          <p:nvPr/>
        </p:nvPicPr>
        <p:blipFill>
          <a:blip r:embed="rId1"/>
          <a:stretch/>
        </p:blipFill>
        <p:spPr>
          <a:xfrm>
            <a:off x="4800600" y="3200400"/>
            <a:ext cx="2819520" cy="2776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MPj04224930000[1]"/>
          <p:cNvPicPr/>
          <p:nvPr/>
        </p:nvPicPr>
        <p:blipFill>
          <a:blip r:embed="rId2"/>
          <a:stretch/>
        </p:blipFill>
        <p:spPr>
          <a:xfrm>
            <a:off x="1600200" y="3200400"/>
            <a:ext cx="1779480" cy="2666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yo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mall animal that looks something like a wo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MCj03323060000[1]"/>
          <p:cNvPicPr/>
          <p:nvPr/>
        </p:nvPicPr>
        <p:blipFill>
          <a:blip r:embed="rId1"/>
          <a:stretch/>
        </p:blipFill>
        <p:spPr>
          <a:xfrm>
            <a:off x="2819520" y="2438280"/>
            <a:ext cx="2886120" cy="3124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mazing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ri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and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ecipi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un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ed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v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iscove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bidd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1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ri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that is very, very d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MPj04022580000[1]"/>
          <p:cNvPicPr/>
          <p:nvPr/>
        </p:nvPicPr>
        <p:blipFill>
          <a:blip r:embed="rId1"/>
          <a:stretch/>
        </p:blipFill>
        <p:spPr>
          <a:xfrm>
            <a:off x="2666880" y="228600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22:56:54Z</dcterms:created>
  <dc:creator> </dc:creator>
  <dc:description/>
  <dc:language>en-US</dc:language>
  <cp:lastModifiedBy>Laura McDow</cp:lastModifiedBy>
  <dcterms:modified xsi:type="dcterms:W3CDTF">2010-07-29T09:17:23Z</dcterms:modified>
  <cp:revision>3</cp:revision>
  <dc:subject/>
  <dc:title>A Walk in the Desert Vocabulary and Amazing Words</dc:title>
</cp:coreProperties>
</file>